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DCDB-629C-4247-98E6-728FC3F017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0DF5-2362-4305-9494-E3F1D8356C0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97AD-05D3-4238-B8BE-C6E7F2402F9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7B7D-439E-4932-B13E-77D5FC90094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9F9FE-4BC5-456C-8946-80DAEA3B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273DB-1D95-40C1-A356-00F86D89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F0CA3-6461-4E05-8C40-FA677FD5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2937B-7351-46DD-91CE-42A53308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F23AB-554B-401A-95F1-6D95D883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C272B-4720-415B-A640-AC031854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15E90-CDA5-4D7C-AB09-9D808515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E65BF-DD41-4A09-BACF-CB47AF6E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49971-B636-4BC5-B3BD-BF30721D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2F58C-A3C9-4575-860B-4ACA92B5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9B511-6AA2-4BC1-9CFF-6D1116DC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22778-0DE1-48D0-A27A-1C4C2BB5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6E9238-EBE6-4F50-998E-19361D9A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9F588E-9983-42D1-AE07-50DCA803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DB23FA-CAF5-4C2E-93E5-3FB13C76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B0DA49-E9FE-42E6-8DF9-3449D7AC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8CE076-5BE2-4443-97B1-DB472F9F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7CFAE2-9192-4BA6-B6AB-F75222D7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1E7DEF-0B9B-48D9-8307-5BBB1E04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067D87-006A-4674-A1B3-D327496E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450335-D5A5-455E-B0A9-83618090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779CBE-491F-4017-BEC9-99F3A17D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5F6D95-E971-41E2-B206-D71ED93B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13FCA4-6BD0-447C-B233-6B4EED8F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8BF8-53AD-401A-A142-9826190C30F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8B61-7A63-488E-B208-8696269B8F8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2984-D08A-489D-8E7E-6F1D5B7FEF5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9192-967B-4634-933B-66D9A56718B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EC8E-223C-4DDD-8B65-DC057B21BDD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6154-D8FA-42BD-A977-C1B9E27DD7D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E88D-C46F-43CE-9573-CA2794612C0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85C0-0B36-4F8C-B9CE-BF8C3197261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2530-8801-47A8-BDB3-3B6AAD8E64F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B9F5-0FC4-4A9C-A69E-89095EFB66E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6cd"/>
                </a:solidFill>
                <a:latin typeface="HY강B"/>
                <a:ea typeface="HY강B"/>
              </a:rPr>
              <a:t>7</a:t>
            </a:r>
            <a:r>
              <a:rPr b="1" lang="ko-KR" sz="3600" spc="-1" strike="noStrike">
                <a:solidFill>
                  <a:srgbClr val="dc06cd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그룹 10"/>
          <p:cNvGrpSpPr/>
          <p:nvPr/>
        </p:nvGrpSpPr>
        <p:grpSpPr>
          <a:xfrm>
            <a:off x="214200" y="71280"/>
            <a:ext cx="8929800" cy="6000840"/>
            <a:chOff x="214200" y="71280"/>
            <a:chExt cx="8929800" cy="6000840"/>
          </a:xfrm>
        </p:grpSpPr>
        <p:sp>
          <p:nvSpPr>
            <p:cNvPr id="651" name="AutoShape 2"/>
            <p:cNvSpPr/>
            <p:nvPr/>
          </p:nvSpPr>
          <p:spPr>
            <a:xfrm>
              <a:off x="499680" y="4857840"/>
              <a:ext cx="828072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4"/>
            <p:cNvSpPr/>
            <p:nvPr/>
          </p:nvSpPr>
          <p:spPr>
            <a:xfrm>
              <a:off x="356760" y="7128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복지시설의 설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AutoShape 2"/>
            <p:cNvSpPr/>
            <p:nvPr/>
          </p:nvSpPr>
          <p:spPr>
            <a:xfrm>
              <a:off x="499680" y="1285560"/>
              <a:ext cx="82807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4" name="그룹 10"/>
            <p:cNvGrpSpPr/>
            <p:nvPr/>
          </p:nvGrpSpPr>
          <p:grpSpPr>
            <a:xfrm>
              <a:off x="214200" y="785520"/>
              <a:ext cx="8929800" cy="3186360"/>
              <a:chOff x="214200" y="785520"/>
              <a:chExt cx="8929800" cy="3186360"/>
            </a:xfrm>
          </p:grpSpPr>
          <p:sp>
            <p:nvSpPr>
              <p:cNvPr id="655" name="AutoShape 29"/>
              <p:cNvSpPr/>
              <p:nvPr/>
            </p:nvSpPr>
            <p:spPr>
              <a:xfrm>
                <a:off x="214200" y="78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설계의 기본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6" name="Text Box 25"/>
              <p:cNvSpPr/>
              <p:nvPr/>
            </p:nvSpPr>
            <p:spPr>
              <a:xfrm>
                <a:off x="571320" y="1285560"/>
                <a:ext cx="857268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립생활 지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barrier-free facility. universal desig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 보장과 사회적 교류 촉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간의 합리적 배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zoning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사고의 예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non-slip system, nurse call syste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사회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환경적 개방공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종사자의 편의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분한 문화 및 여가공간의 확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57" name="그룹 10"/>
            <p:cNvGrpSpPr/>
            <p:nvPr/>
          </p:nvGrpSpPr>
          <p:grpSpPr>
            <a:xfrm>
              <a:off x="214200" y="4332240"/>
              <a:ext cx="8929800" cy="1681560"/>
              <a:chOff x="214200" y="4332240"/>
              <a:chExt cx="8929800" cy="1681560"/>
            </a:xfrm>
          </p:grpSpPr>
          <p:sp>
            <p:nvSpPr>
              <p:cNvPr id="658" name="AutoShape 29"/>
              <p:cNvSpPr/>
              <p:nvPr/>
            </p:nvSpPr>
            <p:spPr>
              <a:xfrm>
                <a:off x="214200" y="43322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공간별 설계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9" name="Text Box 25"/>
              <p:cNvSpPr/>
              <p:nvPr/>
            </p:nvSpPr>
            <p:spPr>
              <a:xfrm>
                <a:off x="571320" y="4903560"/>
                <a:ext cx="8572680" cy="11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입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승강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담화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목욕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물처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복지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냉난방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명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관과 정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설계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그룹 12"/>
          <p:cNvGrpSpPr/>
          <p:nvPr/>
        </p:nvGrpSpPr>
        <p:grpSpPr>
          <a:xfrm>
            <a:off x="142920" y="71280"/>
            <a:ext cx="9001080" cy="6262920"/>
            <a:chOff x="142920" y="71280"/>
            <a:chExt cx="9001080" cy="6262920"/>
          </a:xfrm>
        </p:grpSpPr>
        <p:sp>
          <p:nvSpPr>
            <p:cNvPr id="661" name="AutoShape 2"/>
            <p:cNvSpPr/>
            <p:nvPr/>
          </p:nvSpPr>
          <p:spPr>
            <a:xfrm>
              <a:off x="180720" y="3214440"/>
              <a:ext cx="8748720" cy="3071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2" name="AutoShape 2"/>
            <p:cNvSpPr/>
            <p:nvPr/>
          </p:nvSpPr>
          <p:spPr>
            <a:xfrm>
              <a:off x="142920" y="1928520"/>
              <a:ext cx="874872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214200" y="1935000"/>
              <a:ext cx="8715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원칙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권보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립생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요양 우선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록 및 공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통합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서비스와 효율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당청구 금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알선행위 금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6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4" name="그룹 30"/>
            <p:cNvGrpSpPr/>
            <p:nvPr/>
          </p:nvGrpSpPr>
          <p:grpSpPr>
            <a:xfrm>
              <a:off x="142920" y="71280"/>
              <a:ext cx="9001080" cy="1395000"/>
              <a:chOff x="142920" y="71280"/>
              <a:chExt cx="9001080" cy="1395000"/>
            </a:xfrm>
          </p:grpSpPr>
          <p:sp>
            <p:nvSpPr>
              <p:cNvPr id="665" name="AutoShape 2"/>
              <p:cNvSpPr/>
              <p:nvPr/>
            </p:nvSpPr>
            <p:spPr>
              <a:xfrm>
                <a:off x="181080" y="621720"/>
                <a:ext cx="8748720" cy="806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AutoShape 7"/>
              <p:cNvSpPr/>
              <p:nvPr/>
            </p:nvSpPr>
            <p:spPr>
              <a:xfrm>
                <a:off x="142920" y="71280"/>
                <a:ext cx="53578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시설의 운영과 관리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Text Box 25"/>
              <p:cNvSpPr/>
              <p:nvPr/>
            </p:nvSpPr>
            <p:spPr>
              <a:xfrm>
                <a:off x="214200" y="777600"/>
                <a:ext cx="892980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운영 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주거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고지원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료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보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방식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음에서는 노인의료복지시설 운영과 관리를 중심으로 논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9"/>
            <p:cNvSpPr/>
            <p:nvPr/>
          </p:nvSpPr>
          <p:spPr>
            <a:xfrm>
              <a:off x="142920" y="1571400"/>
              <a:ext cx="8572680" cy="3571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시설 서비스 제공의 기본원칙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9"/>
            <p:cNvSpPr/>
            <p:nvPr/>
          </p:nvSpPr>
          <p:spPr>
            <a:xfrm>
              <a:off x="142920" y="2714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25"/>
            <p:cNvSpPr/>
            <p:nvPr/>
          </p:nvSpPr>
          <p:spPr>
            <a:xfrm>
              <a:off x="214200" y="3316320"/>
              <a:ext cx="864396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인력의 적정수준 확보는 시설운영의 핵심 요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종류별 인력배치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7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규모에 따라 일부 종사자 추가배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성 질환으로 독립적인 일상생활을 수행하기 어려운 노인들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해 노인요양 및 재가시설에서 신체 및 가사 지원 서비스를 제공하는 인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요양보호사 양성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에 관계없이 소정 교육 이수 후 시도지사 주관 자격시험 통과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양성교육시간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-8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.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단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경력자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간호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물리치료사 자격소지자는 교육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시간 감면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 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에 관계없이 단기교육으로 양성된 요양보호사의 질적 문제로 요양서비스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의 질적 문제 야기 가능성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그룹 8"/>
          <p:cNvGrpSpPr/>
          <p:nvPr/>
        </p:nvGrpSpPr>
        <p:grpSpPr>
          <a:xfrm>
            <a:off x="0" y="214200"/>
            <a:ext cx="8929800" cy="6500880"/>
            <a:chOff x="0" y="214200"/>
            <a:chExt cx="8929800" cy="6500880"/>
          </a:xfrm>
        </p:grpSpPr>
        <p:pic>
          <p:nvPicPr>
            <p:cNvPr id="672" name="Picture 2" descr="C:\DOCUME~1\USER\LOCALS~1\Temp\UNI000009b01cd2.gif"/>
            <p:cNvPicPr/>
            <p:nvPr/>
          </p:nvPicPr>
          <p:blipFill>
            <a:blip r:embed="rId1"/>
            <a:stretch/>
          </p:blipFill>
          <p:spPr>
            <a:xfrm>
              <a:off x="0" y="5035680"/>
              <a:ext cx="3929040" cy="16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AutoShape 2"/>
            <p:cNvSpPr/>
            <p:nvPr/>
          </p:nvSpPr>
          <p:spPr>
            <a:xfrm>
              <a:off x="180720" y="78552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9"/>
            <p:cNvSpPr/>
            <p:nvPr/>
          </p:nvSpPr>
          <p:spPr>
            <a:xfrm>
              <a:off x="142560" y="2142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25"/>
            <p:cNvSpPr/>
            <p:nvPr/>
          </p:nvSpPr>
          <p:spPr>
            <a:xfrm>
              <a:off x="214200" y="857160"/>
              <a:ext cx="8715600" cy="16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 지급기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은 사회복지시설 관리안내의 인건비 지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적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은 시설 경영자가 근로기준법내에서 자율 결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 등은 대부분 계약직 채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사자의 급여수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무환경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성은 장기요양보험제도 시행 후 오히려 악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AutoShape 2"/>
            <p:cNvSpPr/>
            <p:nvPr/>
          </p:nvSpPr>
          <p:spPr>
            <a:xfrm>
              <a:off x="180720" y="3357360"/>
              <a:ext cx="874908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9"/>
            <p:cNvSpPr/>
            <p:nvPr/>
          </p:nvSpPr>
          <p:spPr>
            <a:xfrm>
              <a:off x="142560" y="2786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25"/>
            <p:cNvSpPr/>
            <p:nvPr/>
          </p:nvSpPr>
          <p:spPr>
            <a:xfrm>
              <a:off x="214200" y="3463920"/>
              <a:ext cx="8644320" cy="15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고와 지방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비입소자의 입소비용으로 조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비는 국민기초생활보장법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는 시설경영자가 자체 운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에 의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그룹 9"/>
          <p:cNvGrpSpPr/>
          <p:nvPr/>
        </p:nvGrpSpPr>
        <p:grpSpPr>
          <a:xfrm>
            <a:off x="142920" y="71280"/>
            <a:ext cx="8786880" cy="6199920"/>
            <a:chOff x="142920" y="71280"/>
            <a:chExt cx="8786880" cy="6199920"/>
          </a:xfrm>
        </p:grpSpPr>
        <p:sp>
          <p:nvSpPr>
            <p:cNvPr id="680" name="AutoShape 2"/>
            <p:cNvSpPr/>
            <p:nvPr/>
          </p:nvSpPr>
          <p:spPr>
            <a:xfrm>
              <a:off x="180720" y="499680"/>
              <a:ext cx="8749080" cy="32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9"/>
            <p:cNvSpPr/>
            <p:nvPr/>
          </p:nvSpPr>
          <p:spPr>
            <a:xfrm>
              <a:off x="142920" y="712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25"/>
            <p:cNvSpPr/>
            <p:nvPr/>
          </p:nvSpPr>
          <p:spPr>
            <a:xfrm>
              <a:off x="285480" y="499680"/>
              <a:ext cx="8644320" cy="32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기요양기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방식과 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두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人頭制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방식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종류와 등급에 따른 차등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9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비용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보험급여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0%)+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입소노인의 본인부담금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%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단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득따라 경감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비급여항목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급 침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1-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용 추가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미용비는 전액 본인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원거리 택시 등의 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별 물품 구입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인 희망 서비스 이용비용은 실비 부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경영자는 운영수입 범위 내에서 생계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건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비 등을 자율 집행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환경개선 비용 적립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난방비와 공공요금 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해 및 영업배상보험 가입 등으로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정압박시 서비스 운영경비 축소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력구조조정 등의 비용절감 시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런 재정운용방식 선택시 서비스 질 저하로 이어지고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결국 소비자의 선택을 받지 못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는 상황에 직면할 수 있으므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외부 자원개발을 위한 노력 필요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3" name="그룹 8"/>
            <p:cNvGrpSpPr/>
            <p:nvPr/>
          </p:nvGrpSpPr>
          <p:grpSpPr>
            <a:xfrm>
              <a:off x="180720" y="3857760"/>
              <a:ext cx="8749080" cy="2413440"/>
              <a:chOff x="180720" y="3857760"/>
              <a:chExt cx="8749080" cy="241344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180720" y="4263120"/>
                <a:ext cx="8749080" cy="1952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285480" y="4264200"/>
                <a:ext cx="864432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면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양로시설과 노인공동생활가정은 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.9m2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3.6m2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공동생활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0.5m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시설의 시설 기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10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기준 시설의 확보 이외에 공간별 계획 설계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 필요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냉난방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습기와 냄새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기 등의 안전점검을 철저히 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설설비 개조필요 비용 마련을 위해 감가상각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속 적립 필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직사각형 8"/>
              <p:cNvSpPr/>
              <p:nvPr/>
            </p:nvSpPr>
            <p:spPr>
              <a:xfrm>
                <a:off x="213840" y="3857760"/>
                <a:ext cx="50724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시설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11"/>
          <p:cNvGrpSpPr/>
          <p:nvPr/>
        </p:nvGrpSpPr>
        <p:grpSpPr>
          <a:xfrm>
            <a:off x="0" y="142920"/>
            <a:ext cx="9001080" cy="6487920"/>
            <a:chOff x="0" y="142920"/>
            <a:chExt cx="9001080" cy="6487920"/>
          </a:xfrm>
        </p:grpSpPr>
        <p:pic>
          <p:nvPicPr>
            <p:cNvPr id="688" name="Picture 4" descr="C:\DOCUME~1\USER\LOCALS~1\Temp\UNI000006ac76dc.gif"/>
            <p:cNvPicPr/>
            <p:nvPr/>
          </p:nvPicPr>
          <p:blipFill>
            <a:blip r:embed="rId1"/>
            <a:stretch/>
          </p:blipFill>
          <p:spPr>
            <a:xfrm>
              <a:off x="0" y="5929200"/>
              <a:ext cx="1857240" cy="70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9" name="그룹 2"/>
            <p:cNvGrpSpPr/>
            <p:nvPr/>
          </p:nvGrpSpPr>
          <p:grpSpPr>
            <a:xfrm>
              <a:off x="180720" y="142920"/>
              <a:ext cx="8820360" cy="1857240"/>
              <a:chOff x="180720" y="142920"/>
              <a:chExt cx="8820360" cy="1857240"/>
            </a:xfrm>
          </p:grpSpPr>
          <p:sp>
            <p:nvSpPr>
              <p:cNvPr id="690" name="AutoShape 2"/>
              <p:cNvSpPr/>
              <p:nvPr/>
            </p:nvSpPr>
            <p:spPr>
              <a:xfrm>
                <a:off x="180720" y="646200"/>
                <a:ext cx="8820360" cy="135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Text Box 6"/>
              <p:cNvSpPr/>
              <p:nvPr/>
            </p:nvSpPr>
            <p:spPr>
              <a:xfrm>
                <a:off x="285480" y="733320"/>
                <a:ext cx="8715600" cy="12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통의 요양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함께 개별화된 사례관리서비스를 제공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소노인 개인의 장기요양등급과 욕구에 대한 종합사정을 바탕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생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및 사회교류 촉진서비스 등이 이루어져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직사각형 4"/>
              <p:cNvSpPr/>
              <p:nvPr/>
            </p:nvSpPr>
            <p:spPr>
              <a:xfrm>
                <a:off x="213840" y="142920"/>
                <a:ext cx="5929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프로그램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3" name="AutoShape 2"/>
            <p:cNvSpPr/>
            <p:nvPr/>
          </p:nvSpPr>
          <p:spPr>
            <a:xfrm>
              <a:off x="142560" y="3000240"/>
              <a:ext cx="8858520" cy="3071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4" name="그룹 10"/>
            <p:cNvGrpSpPr/>
            <p:nvPr/>
          </p:nvGrpSpPr>
          <p:grpSpPr>
            <a:xfrm>
              <a:off x="285480" y="2357280"/>
              <a:ext cx="8643960" cy="3299400"/>
              <a:chOff x="285480" y="2357280"/>
              <a:chExt cx="8643960" cy="3299400"/>
            </a:xfrm>
          </p:grpSpPr>
          <p:sp>
            <p:nvSpPr>
              <p:cNvPr id="695" name="AutoShape 4"/>
              <p:cNvSpPr/>
              <p:nvPr/>
            </p:nvSpPr>
            <p:spPr>
              <a:xfrm>
                <a:off x="285480" y="2357280"/>
                <a:ext cx="41432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 평가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Text Box 6"/>
              <p:cNvSpPr/>
              <p:nvPr/>
            </p:nvSpPr>
            <p:spPr>
              <a:xfrm>
                <a:off x="285480" y="3109680"/>
                <a:ext cx="8643960" cy="25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업법에 근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주기로 모든 사회복지시설 평가 의무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복지시설은 사회복지사업법에 의거 기존의 노인복지시설 평가방법과 절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은 노인장기요양보험법 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에 의거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리 및 책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과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결과 등을 평가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 평가주체 및 결과공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건강보험공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홈페이지 공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그룹 5"/>
          <p:cNvGrpSpPr/>
          <p:nvPr/>
        </p:nvGrpSpPr>
        <p:grpSpPr>
          <a:xfrm>
            <a:off x="142920" y="214200"/>
            <a:ext cx="8929800" cy="6000840"/>
            <a:chOff x="142920" y="214200"/>
            <a:chExt cx="8929800" cy="6000840"/>
          </a:xfrm>
        </p:grpSpPr>
        <p:sp>
          <p:nvSpPr>
            <p:cNvPr id="698" name="AutoShape 2"/>
            <p:cNvSpPr/>
            <p:nvPr/>
          </p:nvSpPr>
          <p:spPr>
            <a:xfrm>
              <a:off x="142920" y="857160"/>
              <a:ext cx="8858520" cy="535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9" name="그룹 10"/>
            <p:cNvGrpSpPr/>
            <p:nvPr/>
          </p:nvGrpSpPr>
          <p:grpSpPr>
            <a:xfrm>
              <a:off x="285480" y="214200"/>
              <a:ext cx="8787240" cy="5913720"/>
              <a:chOff x="285480" y="214200"/>
              <a:chExt cx="8787240" cy="5913720"/>
            </a:xfrm>
          </p:grpSpPr>
          <p:sp>
            <p:nvSpPr>
              <p:cNvPr id="700" name="AutoShape 4"/>
              <p:cNvSpPr/>
              <p:nvPr/>
            </p:nvSpPr>
            <p:spPr>
              <a:xfrm>
                <a:off x="285480" y="214200"/>
                <a:ext cx="55011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의 문제와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Text Box 6"/>
              <p:cNvSpPr/>
              <p:nvPr/>
            </p:nvSpPr>
            <p:spPr>
              <a:xfrm>
                <a:off x="285480" y="1095120"/>
                <a:ext cx="8787240" cy="50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의 수와 편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수 부족 예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지역 편중되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은 지자체와 농촌지역의 부족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 및 시설간 빈익빈 부익부 현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시장의 경쟁력 상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폐쇄되는 시설 존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 낮은 지자체의 지방비 지원 부족으로 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의 질적 저하 초래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교육에 의한 요양보호사 양성으로 인력의 질 확보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보호사의 비정규직화 및 구조조정 등으로 직업안정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및 복리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한 국가의 적극적 개입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와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관리와 개별화된 서비스의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자 인식개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운영경비 상향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력 및 시설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환경과 설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비의 노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자체의 감가상각비 적립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기적 리모델링이 요구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그룹 11"/>
          <p:cNvGrpSpPr/>
          <p:nvPr/>
        </p:nvGrpSpPr>
        <p:grpSpPr>
          <a:xfrm>
            <a:off x="0" y="0"/>
            <a:ext cx="9501120" cy="6410880"/>
            <a:chOff x="0" y="0"/>
            <a:chExt cx="9501120" cy="6410880"/>
          </a:xfrm>
        </p:grpSpPr>
        <p:pic>
          <p:nvPicPr>
            <p:cNvPr id="7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고령친화산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05" name="그룹 34"/>
            <p:cNvGrpSpPr/>
            <p:nvPr/>
          </p:nvGrpSpPr>
          <p:grpSpPr>
            <a:xfrm>
              <a:off x="285480" y="714240"/>
              <a:ext cx="8643960" cy="2866320"/>
              <a:chOff x="285480" y="714240"/>
              <a:chExt cx="8643960" cy="2866320"/>
            </a:xfrm>
          </p:grpSpPr>
          <p:sp>
            <p:nvSpPr>
              <p:cNvPr id="706" name="AutoShape 2"/>
              <p:cNvSpPr/>
              <p:nvPr/>
            </p:nvSpPr>
            <p:spPr>
              <a:xfrm>
                <a:off x="285480" y="1067040"/>
                <a:ext cx="8643960" cy="24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7" name="AutoShape 4"/>
              <p:cNvSpPr/>
              <p:nvPr/>
            </p:nvSpPr>
            <p:spPr>
              <a:xfrm>
                <a:off x="356760" y="714240"/>
                <a:ext cx="4857840" cy="42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8" name="Text Box 6"/>
              <p:cNvSpPr/>
              <p:nvPr/>
            </p:nvSpPr>
            <p:spPr>
              <a:xfrm>
                <a:off x="499680" y="1188720"/>
                <a:ext cx="8358480" cy="239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ilver industry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아닌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elderly market, mature market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 적절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요양서비스 등과 같은 고령친화제품 등을 연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공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통 또는 판매하는 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진흥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상→ 노인과 고령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→ 민간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서비스 원칙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장경제원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분야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욕구와 문제해결에 필요한 상품과 서비스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이윤을 중시하는 민간재와 공익을 중시하는 공공재의 특성을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 혼합재의 속성을 지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09" name="그룹 34"/>
            <p:cNvGrpSpPr/>
            <p:nvPr/>
          </p:nvGrpSpPr>
          <p:grpSpPr>
            <a:xfrm>
              <a:off x="285480" y="3572280"/>
              <a:ext cx="8643960" cy="2838600"/>
              <a:chOff x="285480" y="3572280"/>
              <a:chExt cx="8643960" cy="2838600"/>
            </a:xfrm>
          </p:grpSpPr>
          <p:sp>
            <p:nvSpPr>
              <p:cNvPr id="710" name="AutoShape 2"/>
              <p:cNvSpPr/>
              <p:nvPr/>
            </p:nvSpPr>
            <p:spPr>
              <a:xfrm>
                <a:off x="285480" y="3982320"/>
                <a:ext cx="8643960" cy="2428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1" name="AutoShape 4"/>
              <p:cNvSpPr/>
              <p:nvPr/>
            </p:nvSpPr>
            <p:spPr>
              <a:xfrm>
                <a:off x="356760" y="3572280"/>
                <a:ext cx="5214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등장과 발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2" name="Text Box 6"/>
              <p:cNvSpPr/>
              <p:nvPr/>
            </p:nvSpPr>
            <p:spPr>
              <a:xfrm>
                <a:off x="499680" y="4088160"/>
                <a:ext cx="8358480" cy="23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등장배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경제력 향상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서비스에 대한 인식변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구조 및 부양기능 약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복지책임 이행의 한계와 민영화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학술적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활성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본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시작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993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유료시설 에 민간참여 허용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06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고령친화산업진흥법 제정으로 기반구축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앞으로 경제력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유시간이 많은 노인의 증가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수요 및 욕구 다양화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베이비붐 세대의 은퇴와 노년기 진입으로 시장규모 더욱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그룹 9"/>
          <p:cNvGrpSpPr/>
          <p:nvPr/>
        </p:nvGrpSpPr>
        <p:grpSpPr>
          <a:xfrm>
            <a:off x="357120" y="71280"/>
            <a:ext cx="8786880" cy="6393600"/>
            <a:chOff x="357120" y="71280"/>
            <a:chExt cx="8786880" cy="6393600"/>
          </a:xfrm>
        </p:grpSpPr>
        <p:grpSp>
          <p:nvGrpSpPr>
            <p:cNvPr id="714" name="그룹 34"/>
            <p:cNvGrpSpPr/>
            <p:nvPr/>
          </p:nvGrpSpPr>
          <p:grpSpPr>
            <a:xfrm>
              <a:off x="357120" y="71280"/>
              <a:ext cx="8786880" cy="1717560"/>
              <a:chOff x="357120" y="71280"/>
              <a:chExt cx="8786880" cy="1717560"/>
            </a:xfrm>
          </p:grpSpPr>
          <p:sp>
            <p:nvSpPr>
              <p:cNvPr id="715" name="AutoShape 2"/>
              <p:cNvSpPr/>
              <p:nvPr/>
            </p:nvSpPr>
            <p:spPr>
              <a:xfrm>
                <a:off x="357120" y="428400"/>
                <a:ext cx="8644320" cy="1357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6" name="AutoShape 4"/>
              <p:cNvSpPr/>
              <p:nvPr/>
            </p:nvSpPr>
            <p:spPr>
              <a:xfrm>
                <a:off x="357120" y="7128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분야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Text Box 6"/>
              <p:cNvSpPr/>
              <p:nvPr/>
            </p:nvSpPr>
            <p:spPr>
              <a:xfrm>
                <a:off x="499680" y="551160"/>
                <a:ext cx="864432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비자 특성과 욕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방식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구분 가능하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요양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약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금융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 등으로 구분되며 다양한 사업 포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8" name="그룹 34"/>
            <p:cNvGrpSpPr/>
            <p:nvPr/>
          </p:nvGrpSpPr>
          <p:grpSpPr>
            <a:xfrm>
              <a:off x="357120" y="1928520"/>
              <a:ext cx="8644320" cy="4536360"/>
              <a:chOff x="357120" y="1928520"/>
              <a:chExt cx="8644320" cy="4536360"/>
            </a:xfrm>
          </p:grpSpPr>
          <p:sp>
            <p:nvSpPr>
              <p:cNvPr id="719" name="AutoShape 2"/>
              <p:cNvSpPr/>
              <p:nvPr/>
            </p:nvSpPr>
            <p:spPr>
              <a:xfrm>
                <a:off x="357120" y="2338560"/>
                <a:ext cx="8644320" cy="4090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0" name="AutoShape 4"/>
              <p:cNvSpPr/>
              <p:nvPr/>
            </p:nvSpPr>
            <p:spPr>
              <a:xfrm>
                <a:off x="357120" y="192852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현황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1" name="Text Box 6"/>
              <p:cNvSpPr/>
              <p:nvPr/>
            </p:nvSpPr>
            <p:spPr>
              <a:xfrm>
                <a:off x="499680" y="2444400"/>
                <a:ext cx="8501760" cy="40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주거관련 분야를 중심으로 발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료시설 입소 및 생활비는 편차가 크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도권 지역에 집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되어 있으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계층간 위화감 조성 및 복지차별 문제 야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장기요양보험제도 시행으로 이 분야의 사업이 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속히 확대될 것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산 복지용구의 개발과 생산 확대가 과제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금융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신탁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각종 건강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지연금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상품 다양화와 가입자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육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해외 테마여행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레포츠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보서비스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양화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서전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클럽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웹사이트 운영 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생활편의서비스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보조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별식 배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전용의류디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판매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존성 노인에 대한 배달서비스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그룹 11"/>
          <p:cNvGrpSpPr/>
          <p:nvPr/>
        </p:nvGrpSpPr>
        <p:grpSpPr>
          <a:xfrm>
            <a:off x="0" y="142920"/>
            <a:ext cx="8997840" cy="6572160"/>
            <a:chOff x="0" y="142920"/>
            <a:chExt cx="8997840" cy="6572160"/>
          </a:xfrm>
        </p:grpSpPr>
        <p:sp>
          <p:nvSpPr>
            <p:cNvPr id="723" name="AutoShape 2"/>
            <p:cNvSpPr/>
            <p:nvPr/>
          </p:nvSpPr>
          <p:spPr>
            <a:xfrm>
              <a:off x="285480" y="500040"/>
              <a:ext cx="86407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4" name="AutoShape 4"/>
            <p:cNvSpPr/>
            <p:nvPr/>
          </p:nvSpPr>
          <p:spPr>
            <a:xfrm>
              <a:off x="357120" y="14292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고령친화산업의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5" name="Text Box 25"/>
            <p:cNvSpPr/>
            <p:nvPr/>
          </p:nvSpPr>
          <p:spPr>
            <a:xfrm>
              <a:off x="357120" y="780840"/>
              <a:ext cx="8143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수요 및 민간기업의 참여 증가 등으로 실버마케팅 관심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다양한 장애요인으로 민간부문 참여를 관망하며 준비 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6" name="그룹 12"/>
            <p:cNvGrpSpPr/>
            <p:nvPr/>
          </p:nvGrpSpPr>
          <p:grpSpPr>
            <a:xfrm>
              <a:off x="0" y="5816520"/>
              <a:ext cx="8501040" cy="898560"/>
              <a:chOff x="0" y="5816520"/>
              <a:chExt cx="8501040" cy="898560"/>
            </a:xfrm>
          </p:grpSpPr>
          <p:pic>
            <p:nvPicPr>
              <p:cNvPr id="727" name="Picture 4" descr="C:\DOCUME~1\USER\LOCALS~1\Temp\UNI000006c8818c.gif"/>
              <p:cNvPicPr/>
              <p:nvPr/>
            </p:nvPicPr>
            <p:blipFill>
              <a:blip r:embed="rId3"/>
              <a:stretch/>
            </p:blipFill>
            <p:spPr>
              <a:xfrm>
                <a:off x="0" y="5816520"/>
                <a:ext cx="11224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Rectangle 4"/>
              <p:cNvSpPr/>
              <p:nvPr/>
            </p:nvSpPr>
            <p:spPr>
              <a:xfrm>
                <a:off x="961920" y="600048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사회관계망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29" name="그룹 8"/>
            <p:cNvGrpSpPr/>
            <p:nvPr/>
          </p:nvGrpSpPr>
          <p:grpSpPr>
            <a:xfrm>
              <a:off x="285480" y="1674720"/>
              <a:ext cx="8712360" cy="4067640"/>
              <a:chOff x="285480" y="1674720"/>
              <a:chExt cx="8712360" cy="4067640"/>
            </a:xfrm>
          </p:grpSpPr>
          <p:sp>
            <p:nvSpPr>
              <p:cNvPr id="730" name="AutoShape 2"/>
              <p:cNvSpPr/>
              <p:nvPr/>
            </p:nvSpPr>
            <p:spPr>
              <a:xfrm>
                <a:off x="285480" y="2071440"/>
                <a:ext cx="8641080" cy="366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1" name="Text Box 6"/>
              <p:cNvSpPr/>
              <p:nvPr/>
            </p:nvSpPr>
            <p:spPr>
              <a:xfrm>
                <a:off x="356760" y="2168280"/>
                <a:ext cx="8641080" cy="35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재정 확대를 통한 국민의 최저생활 보장과 복지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에 대한 국가책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낮은 상태에서 민영화 추진시 노인복지의 양극화로 인한 복지차별의 심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육성과 국가 지원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진흥법 제정으로 기반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축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직 가시적 효과 나타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에 대한 규제장치 마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나 상품의 질 불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사기사건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악덕상술 피해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실버서비스 윤리강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우수제품 지정 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입을 통한 지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서비스 소비자의 권리의식 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비자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민단체 등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협력하여 소비자의 권리 향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직사각형 14"/>
              <p:cNvSpPr/>
              <p:nvPr/>
            </p:nvSpPr>
            <p:spPr>
              <a:xfrm>
                <a:off x="318600" y="167472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친화산업 활성화 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 주거환경의 의미와 노인을 위한 주거계획 이해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4485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의 주거실태와 문제점 이해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시설 유형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설계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관리운영 및 평가체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고령친화산업의 특성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분야의 이해와 발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56800" y="274680"/>
            <a:ext cx="8286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7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주거생활과 고령친화산업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8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585" name="AutoShape 2"/>
            <p:cNvSpPr/>
            <p:nvPr/>
          </p:nvSpPr>
          <p:spPr>
            <a:xfrm>
              <a:off x="180720" y="271440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주거환경의 중요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8"/>
            <p:cNvGrpSpPr/>
            <p:nvPr/>
          </p:nvGrpSpPr>
          <p:grpSpPr>
            <a:xfrm>
              <a:off x="180720" y="928440"/>
              <a:ext cx="8963280" cy="1285920"/>
              <a:chOff x="180720" y="928440"/>
              <a:chExt cx="8963280" cy="128592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180720" y="1428480"/>
                <a:ext cx="8820720" cy="785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0" name="그룹 10"/>
              <p:cNvGrpSpPr/>
              <p:nvPr/>
            </p:nvGrpSpPr>
            <p:grpSpPr>
              <a:xfrm>
                <a:off x="213840" y="928440"/>
                <a:ext cx="8930160" cy="1249560"/>
                <a:chOff x="213840" y="928440"/>
                <a:chExt cx="8930160" cy="1249560"/>
              </a:xfrm>
            </p:grpSpPr>
            <p:sp>
              <p:nvSpPr>
                <p:cNvPr id="591" name="AutoShape 29"/>
                <p:cNvSpPr/>
                <p:nvPr/>
              </p:nvSpPr>
              <p:spPr>
                <a:xfrm>
                  <a:off x="213840" y="92844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에 주거환경이 중요한 이유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25"/>
                <p:cNvSpPr/>
                <p:nvPr/>
              </p:nvSpPr>
              <p:spPr>
                <a:xfrm>
                  <a:off x="213840" y="1428480"/>
                  <a:ext cx="8930160" cy="74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생활영역의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고독과 소외 가능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 및 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저하로 인한 독립적 생활의 제한과 환경에 대한 적응능력 저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그룹 10"/>
            <p:cNvGrpSpPr/>
            <p:nvPr/>
          </p:nvGrpSpPr>
          <p:grpSpPr>
            <a:xfrm>
              <a:off x="214200" y="2225520"/>
              <a:ext cx="8786880" cy="2762640"/>
              <a:chOff x="214200" y="2225520"/>
              <a:chExt cx="8786880" cy="2762640"/>
            </a:xfrm>
          </p:grpSpPr>
          <p:sp>
            <p:nvSpPr>
              <p:cNvPr id="594" name="AutoShape 29"/>
              <p:cNvSpPr/>
              <p:nvPr/>
            </p:nvSpPr>
            <p:spPr>
              <a:xfrm>
                <a:off x="214200" y="222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 주거환경의 중요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Text Box 25"/>
              <p:cNvSpPr/>
              <p:nvPr/>
            </p:nvSpPr>
            <p:spPr>
              <a:xfrm>
                <a:off x="214200" y="2725560"/>
                <a:ext cx="8786880" cy="22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생활영역이 가정환경으로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의 소득보장기능과 주거비용 부담의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 주택 장기 거주시 사회관계망과 사회적 지위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의 자유를 공간적으로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생에 걸친 추억과 경험의 연속성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획 주거환경으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하 보완과 안전한 물리환경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6" name="그룹 18"/>
            <p:cNvGrpSpPr/>
            <p:nvPr/>
          </p:nvGrpSpPr>
          <p:grpSpPr>
            <a:xfrm>
              <a:off x="180720" y="5010120"/>
              <a:ext cx="8963280" cy="1419120"/>
              <a:chOff x="180720" y="5010120"/>
              <a:chExt cx="8963280" cy="141912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80720" y="5438880"/>
                <a:ext cx="882072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8" name="그룹 10"/>
              <p:cNvGrpSpPr/>
              <p:nvPr/>
            </p:nvGrpSpPr>
            <p:grpSpPr>
              <a:xfrm>
                <a:off x="213840" y="5010120"/>
                <a:ext cx="8930160" cy="1411200"/>
                <a:chOff x="213840" y="5010120"/>
                <a:chExt cx="8930160" cy="1411200"/>
              </a:xfrm>
            </p:grpSpPr>
            <p:sp>
              <p:nvSpPr>
                <p:cNvPr id="599" name="AutoShape 29"/>
                <p:cNvSpPr/>
                <p:nvPr/>
              </p:nvSpPr>
              <p:spPr>
                <a:xfrm>
                  <a:off x="213840" y="50101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 주거문제에 대한 사회적 대응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0" name="Text Box 25"/>
                <p:cNvSpPr/>
                <p:nvPr/>
              </p:nvSpPr>
              <p:spPr>
                <a:xfrm>
                  <a:off x="213840" y="5397480"/>
                  <a:ext cx="8930160" cy="10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및 건강수준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동거부양 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은 주택가격으로 주거문제 심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되고 있으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문제는 노인 자신이나 가족이 해결해야 한다는 인식이 팽배하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보장에 대한 사회적 관심은 매우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8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602" name="AutoShape 2"/>
            <p:cNvSpPr/>
            <p:nvPr/>
          </p:nvSpPr>
          <p:spPr>
            <a:xfrm>
              <a:off x="285480" y="1357200"/>
              <a:ext cx="8715600" cy="4857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4" name="그룹 10"/>
            <p:cNvGrpSpPr/>
            <p:nvPr/>
          </p:nvGrpSpPr>
          <p:grpSpPr>
            <a:xfrm>
              <a:off x="285480" y="785520"/>
              <a:ext cx="8715600" cy="5316480"/>
              <a:chOff x="285480" y="785520"/>
              <a:chExt cx="8715600" cy="5316480"/>
            </a:xfrm>
          </p:grpSpPr>
          <p:sp>
            <p:nvSpPr>
              <p:cNvPr id="605" name="AutoShape 4"/>
              <p:cNvSpPr/>
              <p:nvPr/>
            </p:nvSpPr>
            <p:spPr>
              <a:xfrm>
                <a:off x="285480" y="7855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 주거형태 분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356760" y="1557000"/>
                <a:ext cx="8644320" cy="45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 분류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시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장 일반적 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하고 서비스 필요성 낮은 노인의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반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주택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등의 서비스를 제공하는 시설에서 공동생활하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개인생활보장되는 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의 노인복지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적 환경에서 집단생활을 하는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생활가정 등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치료와 간호를 목적으로 한 의료서비스가 중점 제공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거주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의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병원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시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간 동안 숙식이나 기타 필요서비스를 제공하는 주거형태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 단기보호시설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7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거형태와 현실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그룹 6"/>
          <p:cNvGrpSpPr/>
          <p:nvPr/>
        </p:nvGrpSpPr>
        <p:grpSpPr>
          <a:xfrm>
            <a:off x="71280" y="357120"/>
            <a:ext cx="9001440" cy="6369120"/>
            <a:chOff x="71280" y="357120"/>
            <a:chExt cx="9001440" cy="6369120"/>
          </a:xfrm>
        </p:grpSpPr>
        <p:sp>
          <p:nvSpPr>
            <p:cNvPr id="609" name="AutoShape 2"/>
            <p:cNvSpPr/>
            <p:nvPr/>
          </p:nvSpPr>
          <p:spPr>
            <a:xfrm>
              <a:off x="71280" y="785520"/>
              <a:ext cx="9001440" cy="5595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0" name="그룹 10"/>
            <p:cNvGrpSpPr/>
            <p:nvPr/>
          </p:nvGrpSpPr>
          <p:grpSpPr>
            <a:xfrm>
              <a:off x="213840" y="357120"/>
              <a:ext cx="8787240" cy="6369120"/>
              <a:chOff x="213840" y="357120"/>
              <a:chExt cx="8787240" cy="6369120"/>
            </a:xfrm>
          </p:grpSpPr>
          <p:sp>
            <p:nvSpPr>
              <p:cNvPr id="611" name="AutoShape 4"/>
              <p:cNvSpPr/>
              <p:nvPr/>
            </p:nvSpPr>
            <p:spPr>
              <a:xfrm>
                <a:off x="285120" y="3571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 주거실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213840" y="1099800"/>
                <a:ext cx="8787240" cy="562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정원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천여명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입소 인원이 증가하고 있으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97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가 지역사회에 거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녀 동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별거실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율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4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이 많은 노인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 동거하는 비율이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형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9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5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세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%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%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주택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소유상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71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본인 또는 자녀 명의 자가 소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%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설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지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옥탑방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5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방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 등 개조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편이도와 만족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설비 불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비용 과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구조 불편 등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해 주거편이도와 만족도가 낮은 편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ADL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 노인의 주거만족도가 상대적으로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래주거계획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 비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2%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부 또는 독신 거주 비율 증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입소 희망 비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609480" y="2071800"/>
            <a:ext cx="8105760" cy="1214280"/>
          </a:xfrm>
          <a:prstGeom prst="roundRect">
            <a:avLst>
              <a:gd name="adj" fmla="val 2003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4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29"/>
          <p:cNvSpPr/>
          <p:nvPr/>
        </p:nvSpPr>
        <p:spPr>
          <a:xfrm>
            <a:off x="214200" y="1643040"/>
            <a:ext cx="8572680" cy="42876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주거환경 계획의 필요성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719280" y="2116080"/>
            <a:ext cx="64245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노화로 인한 기능 저하의 보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독립적이고 안전한 주거환경 구축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사생활 유지 및 사회적 관계망의 유지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285840" y="1071720"/>
            <a:ext cx="628632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1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노인을 위한 주거환경 계획의 원칙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609480" y="3863880"/>
            <a:ext cx="8105760" cy="264312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9" name="그룹 10"/>
          <p:cNvGrpSpPr/>
          <p:nvPr/>
        </p:nvGrpSpPr>
        <p:grpSpPr>
          <a:xfrm>
            <a:off x="285840" y="3448080"/>
            <a:ext cx="8715240" cy="3024360"/>
            <a:chOff x="285840" y="3448080"/>
            <a:chExt cx="8715240" cy="3024360"/>
          </a:xfrm>
        </p:grpSpPr>
        <p:sp>
          <p:nvSpPr>
            <p:cNvPr id="620" name="AutoShape 29"/>
            <p:cNvSpPr/>
            <p:nvPr/>
          </p:nvSpPr>
          <p:spPr>
            <a:xfrm>
              <a:off x="285840" y="34480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주거환경 계획의 원칙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Text Box 25"/>
            <p:cNvSpPr/>
            <p:nvPr/>
          </p:nvSpPr>
          <p:spPr>
            <a:xfrm>
              <a:off x="714240" y="3863880"/>
              <a:ext cx="828684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의 연속성 보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존성 최소화 및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ADL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준에 맞는 기능적 환경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전한 환경 조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물학적 쾌적성 유지와 건강 지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barrier-free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경의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간조직과 동선의 단순화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향감각과 이해력 증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상호작용의 자극과 서비스 접근성 최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2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노인을 위한 주거환경의 계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그룹 15"/>
          <p:cNvGrpSpPr/>
          <p:nvPr/>
        </p:nvGrpSpPr>
        <p:grpSpPr>
          <a:xfrm>
            <a:off x="285840" y="0"/>
            <a:ext cx="8643960" cy="6524640"/>
            <a:chOff x="285840" y="0"/>
            <a:chExt cx="8643960" cy="6524640"/>
          </a:xfrm>
        </p:grpSpPr>
        <p:grpSp>
          <p:nvGrpSpPr>
            <p:cNvPr id="624" name="그룹 11"/>
            <p:cNvGrpSpPr/>
            <p:nvPr/>
          </p:nvGrpSpPr>
          <p:grpSpPr>
            <a:xfrm>
              <a:off x="285840" y="642600"/>
              <a:ext cx="8643960" cy="5882040"/>
              <a:chOff x="285840" y="642600"/>
              <a:chExt cx="8643960" cy="5882040"/>
            </a:xfrm>
          </p:grpSpPr>
          <p:sp>
            <p:nvSpPr>
              <p:cNvPr id="625" name="AutoShape 2"/>
              <p:cNvSpPr/>
              <p:nvPr/>
            </p:nvSpPr>
            <p:spPr>
              <a:xfrm>
                <a:off x="285840" y="1099080"/>
                <a:ext cx="8643960" cy="5425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357120" y="1351080"/>
                <a:ext cx="8572680" cy="47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과 유효너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cm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잡이는 레버형 손잡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끄럼 방지 마감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 높낮이 차 없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뷸가피한 경우 단차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상연락장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에 관리실 비상연락장치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작감지센서 부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5-85cm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수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평 손잡이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사로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.2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이에 비디오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0-9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0-4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구 동작감지센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하이동 가능 샤워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기 등 주변 안전손잡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은 밖여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서기문 등으로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의 경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좌변기 옆에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c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확보 및 높낮이 조절 가능 세면기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직사각형 7"/>
              <p:cNvSpPr/>
              <p:nvPr/>
            </p:nvSpPr>
            <p:spPr>
              <a:xfrm>
                <a:off x="285840" y="642600"/>
                <a:ext cx="83908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장애인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자 등 주거약자 지원 법률상의 편의시설 설치기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0"/>
              <a:ext cx="6286680" cy="49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주택설계의 지침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그룹 15"/>
          <p:cNvGrpSpPr/>
          <p:nvPr/>
        </p:nvGrpSpPr>
        <p:grpSpPr>
          <a:xfrm>
            <a:off x="285840" y="0"/>
            <a:ext cx="8643960" cy="6296040"/>
            <a:chOff x="285840" y="0"/>
            <a:chExt cx="8643960" cy="6296040"/>
          </a:xfrm>
        </p:grpSpPr>
        <p:grpSp>
          <p:nvGrpSpPr>
            <p:cNvPr id="630" name="그룹 11"/>
            <p:cNvGrpSpPr/>
            <p:nvPr/>
          </p:nvGrpSpPr>
          <p:grpSpPr>
            <a:xfrm>
              <a:off x="285840" y="642960"/>
              <a:ext cx="8643960" cy="2000160"/>
              <a:chOff x="285840" y="642960"/>
              <a:chExt cx="8643960" cy="20001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85840" y="955440"/>
                <a:ext cx="8643960" cy="168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357120" y="1143000"/>
                <a:ext cx="8572680" cy="11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가족형 아파트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 서울 상계동에 공급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 적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아파트 등도 역시 법적 문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상 투기의 장의로 변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 차원의 계획 주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3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기업의 실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버타운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4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 건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3" name="직사각형 7"/>
              <p:cNvSpPr/>
              <p:nvPr/>
            </p:nvSpPr>
            <p:spPr>
              <a:xfrm>
                <a:off x="285840" y="64296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국내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4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계획 주거환경의 사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그룹 11"/>
            <p:cNvGrpSpPr/>
            <p:nvPr/>
          </p:nvGrpSpPr>
          <p:grpSpPr>
            <a:xfrm>
              <a:off x="285840" y="2857320"/>
              <a:ext cx="8643960" cy="2071800"/>
              <a:chOff x="285840" y="2857320"/>
              <a:chExt cx="8643960" cy="2071800"/>
            </a:xfrm>
          </p:grpSpPr>
          <p:sp>
            <p:nvSpPr>
              <p:cNvPr id="636" name="AutoShape 2"/>
              <p:cNvSpPr/>
              <p:nvPr/>
            </p:nvSpPr>
            <p:spPr>
              <a:xfrm>
                <a:off x="285840" y="3214440"/>
                <a:ext cx="86439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Text Box 6"/>
              <p:cNvSpPr/>
              <p:nvPr/>
            </p:nvSpPr>
            <p:spPr>
              <a:xfrm>
                <a:off x="357120" y="3285720"/>
                <a:ext cx="8501400" cy="15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조합에서 주로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 민간 기업의 분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지별로 방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의 소형주택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-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로 구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의 집합단지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교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님 맞이방 등은 공동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에 따라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 2, 2.5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주로 구분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기 다른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직사각형 14"/>
              <p:cNvSpPr/>
              <p:nvPr/>
            </p:nvSpPr>
            <p:spPr>
              <a:xfrm>
                <a:off x="285840" y="28573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영국사례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: sheltered housing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9" name="그룹 15"/>
            <p:cNvGrpSpPr/>
            <p:nvPr/>
          </p:nvGrpSpPr>
          <p:grpSpPr>
            <a:xfrm>
              <a:off x="285840" y="5072040"/>
              <a:ext cx="8643960" cy="1224000"/>
              <a:chOff x="285840" y="5072040"/>
              <a:chExt cx="8643960" cy="1224000"/>
            </a:xfrm>
          </p:grpSpPr>
          <p:sp>
            <p:nvSpPr>
              <p:cNvPr id="640" name="AutoShape 2"/>
              <p:cNvSpPr/>
              <p:nvPr/>
            </p:nvSpPr>
            <p:spPr>
              <a:xfrm>
                <a:off x="285840" y="5430960"/>
                <a:ext cx="8643960" cy="865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1" name="Text Box 6"/>
              <p:cNvSpPr/>
              <p:nvPr/>
            </p:nvSpPr>
            <p:spPr>
              <a:xfrm>
                <a:off x="357120" y="5503680"/>
                <a:ext cx="8501400" cy="74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집합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지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숙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코주택 등으로 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가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상세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2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직사각형 18"/>
              <p:cNvSpPr/>
              <p:nvPr/>
            </p:nvSpPr>
            <p:spPr>
              <a:xfrm>
                <a:off x="285840" y="5072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미국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7"/>
          <p:cNvGrpSpPr/>
          <p:nvPr/>
        </p:nvGrpSpPr>
        <p:grpSpPr>
          <a:xfrm>
            <a:off x="0" y="0"/>
            <a:ext cx="9144000" cy="6286320"/>
            <a:chOff x="0" y="0"/>
            <a:chExt cx="9144000" cy="6286320"/>
          </a:xfrm>
        </p:grpSpPr>
        <p:pic>
          <p:nvPicPr>
            <p:cNvPr id="64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그룹 20"/>
            <p:cNvGrpSpPr/>
            <p:nvPr/>
          </p:nvGrpSpPr>
          <p:grpSpPr>
            <a:xfrm>
              <a:off x="357120" y="1428840"/>
              <a:ext cx="8501040" cy="4857480"/>
              <a:chOff x="357120" y="1428840"/>
              <a:chExt cx="8501040" cy="4857480"/>
            </a:xfrm>
          </p:grpSpPr>
          <p:sp>
            <p:nvSpPr>
              <p:cNvPr id="646" name="AutoShape 2"/>
              <p:cNvSpPr/>
              <p:nvPr/>
            </p:nvSpPr>
            <p:spPr>
              <a:xfrm>
                <a:off x="357120" y="1428840"/>
                <a:ext cx="8501040" cy="48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7" name="Text Box 25"/>
              <p:cNvSpPr/>
              <p:nvPr/>
            </p:nvSpPr>
            <p:spPr>
              <a:xfrm>
                <a:off x="461880" y="1685880"/>
                <a:ext cx="8286840" cy="455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또는 주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관계 등의 생활조건상의 곤란과 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부양능력 제한으로 가정에서 계속 생활할 수 없는 경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문제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해결을 도모하는 대안적 노인 주거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의 종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가노인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보호전문기관으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기보호시설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기능을 갖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종류 및 설치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선시대 기로소에서 찾을 수 있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서울 동작동의 천주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로원이 최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양로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운영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및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www.longterm.or.kr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장제도의 실시로 의료복지시설은 사회보험제도 방식의 운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은 국가지원방식의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8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시설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AutoShape 7"/>
            <p:cNvSpPr/>
            <p:nvPr/>
          </p:nvSpPr>
          <p:spPr>
            <a:xfrm>
              <a:off x="285480" y="107136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시설의 종류와 현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3:50:21Z</dcterms:modified>
  <cp:revision>34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